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764-9E98-468C-9E75-A630679F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38A-AB22-404F-80BE-4816DC33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584-1560-4DC5-A6BF-03EA2A6D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ABB-F2AD-4203-82FD-FC4B5F7C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87D-0658-41F1-89BB-739E5238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BC1-4607-4902-B909-A17A72C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CC4B-385D-4EBE-92FD-501F43E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342-D742-4F21-ACDB-01C1C4C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0E15-FBEC-4A05-86B5-BBE1B39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7AD6-F8EF-4B03-9E95-D118065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A01-1E5E-4620-BAD8-1E28197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DC7-38BC-44F3-A979-C21B1729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BA2-390C-4272-BC31-BFE3871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C12C-FD3A-4146-BB67-5F89811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4484-49F7-4421-9675-4CBBCF37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16CC-F99F-4493-A535-F321AE68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C269-1C8A-4CCD-B47A-427EFED0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0A7-EB91-4CC7-AC0D-658E1CE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8D4-8A23-4CB6-87A3-20925EC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53D-BC04-4685-A8D4-EAEFE33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910-EE00-4D33-BCE6-567F757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A8C-7D38-436A-A725-046A93B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0A1-181E-41A8-BF12-6F8A7E1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87F-FF75-466F-B584-D5213D7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E5F-5AD1-4081-A922-E8D263E3EC97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84E9-0836-4BDB-A567-251EF32CFBBF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cf48c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cf48c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8a8700"/>
                </a:solidFill>
                <a:latin typeface="Arial Black"/>
              </a:rPr>
              <a:t>Titlul Proiectului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cf48c"/>
                </a:solidFill>
                <a:latin typeface="Trebuchet MS"/>
              </a:rPr>
              <a:t>Membrii grupei de proiect: 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uprin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90720" y="990720"/>
          <a:ext cx="7696080" cy="57340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KNOW</a:t>
                      </a: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ştim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WONDER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dorim să ştim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am aflat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1368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</a:tr>
              <a:tr h="41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1368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ştim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dorim să ştim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am aflat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Resurse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cf48c"/>
                </a:solidFill>
                <a:latin typeface="Trebuchet MS"/>
              </a:rPr>
              <a:t>Enumeraţi numele şi adresele site-urilor de resurs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9:36:15Z</dcterms:created>
  <dc:creator>Claudia</dc:creator>
  <dc:description/>
  <dc:language>en-US</dc:language>
  <cp:lastModifiedBy>Claudia</cp:lastModifiedBy>
  <dcterms:modified xsi:type="dcterms:W3CDTF">2007-11-04T12:06:55Z</dcterms:modified>
  <cp:revision>4</cp:revision>
  <dc:subject/>
  <dc:title>Titlul Proiectului</dc:title>
</cp:coreProperties>
</file>